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C81D3-8536-462C-96C9-FC40CBC53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7813B-E33C-4C8A-8D63-26CC9DA673D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97672-5879-4144-944A-274A4093F0D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EA5DD-41CC-4E9F-B765-CF94EE9077B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52CED-59DF-4345-9130-9C03601BF45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0F901952-C658-46FA-8539-1063C6B87A51}"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28565-A89B-4103-B0D1-ECF63673FF0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7EB83-C1B7-4E7D-BDEF-1B9A1E6B86C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22D88-53C8-4655-BF5E-1CAF50F7E4A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BFFFC-563C-4F11-82ED-4A4E8711008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2E503-16E6-4929-A2B7-5770150A190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D06FC-8FF7-4E67-AB51-03382375E3D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668B1-F7B3-4ABE-9B8C-2D697C3D3EF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69770-D233-4FC4-A61D-EE3BE80A612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A38E7-2F72-4256-9F44-70920E638A2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4CE23-2A17-43E0-AA7E-18CDBC4CB61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4ABA9-D54C-40DF-91A5-26CA65031F0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4320F-00F2-4BAB-8B57-93D42E764A2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6D6A7-27D0-498A-87C6-746D5ACAE8A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540A0-F8BC-4B21-AFA9-885CFBEC02F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5EB25-CC9A-4631-8DAD-202E31C17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13B30-C394-4D63-9BB7-5639AFB72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53B0-406C-4BAA-93D1-5D35615D3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37913-4CF2-45D1-9126-A987D9ADF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4D8CC-4791-46A2-8AC2-717334775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0EFBA-74B0-4325-B337-4690DC4A3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508C6-53CD-4E79-A727-C550E6011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0653F-9B57-4EEC-8B72-3138B206B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24D6F-5E23-4C84-9144-C730A65E5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2F023-F6A2-4C62-8A39-4F41EF771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6552B-F08C-4090-BA4C-F149186C3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C76E-ED93-4EF7-88F8-B08A90B7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9DBD1-CA57-4FEF-A012-8986C4C45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65780-FE3B-4B54-8A76-9EBEC6BBA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D56CF-839B-42CA-8832-86E0CA387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FEA91-5294-4620-8413-D96A0FABF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84250-0505-43FF-9D08-1ACDBF2A4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FE503-F772-4928-B5CA-920DDACF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9C23-0CFF-418E-95DD-FC32B121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A2DA-9594-448A-808D-EE76542F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60656-4A91-42E8-89C4-556FF074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D0A37-1B65-4545-8EC9-838593103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DEB5-9115-41FA-A08B-75B07316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6FB1-04AE-43D9-AB18-A05226AA0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745C6-ACF3-481A-8E01-3458CFF34F36}"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CCE3F-614D-4F90-9A5A-8FEF6EA4D6F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Leadership Capacities</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Leadership Capacities</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Leadership Capacities</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644400" y="87624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Leadership Capacities</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Leadership Capacities</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Leadership Capacities</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DE635-2B48-4E99-AAA4-1C866E7F1277}"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2ACC3-9497-4948-8668-B82B394D7304}"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1-30T02:44:28Z</dcterms:modified>
  <cp:revision>44</cp:revision>
  <dc:subject/>
  <dc:title>PLMLC Leadership Series  Thunder Bay Region Day 1</dc:title>
</cp:coreProperties>
</file>